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A28-4463-450D-9943-E487B7F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03B-2A2C-418E-88BA-2BDCDC3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476-4BCC-413A-A567-E5C8E6D3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8EF-979F-4161-BADC-59CD0AEC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CB2-F26E-4C26-A0B1-2C90202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A8B-EADB-4EA5-A25E-D796396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82B-8050-4ECA-9EF9-DFC699F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78E-FACD-4FCE-9BF9-4469FC7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BD9-D85D-478E-9C87-49A2AEC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F30-848A-48BF-AFC9-B7D6983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F31-EDF2-4816-92A6-EFBDFCE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37E-8681-4BFF-AA0E-EAE22A9F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66BC-AA65-4385-A8DB-131781703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ed 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S-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entral Stat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f. H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S-400 is designed for upper division students and working profess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rse high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echnology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ing techniques an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7FF-3A39-473B-8E35-F77F72EAE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requisites (students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S-120 and CIS-1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 hours of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Saturdays: 2 in Oct and 2 in N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redit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265 non-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175 stu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75F-DD94-47E3-B386-B28FEEFB9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structure in O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structure in Nov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le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EEFD-55E2-4835-AE14-CFC7C6CA3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ning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00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10 Unit 1: Unix/Informatio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:20 Unit 2: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30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40 Unit 3: Applie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5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0A3F-E63F-463F-A9F4-7F4BCA03A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noon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5 Unit 4: Technolog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:45 Unit 5: Software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:55 Bre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05 Unit 6: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:30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442-0FAD-476C-9D66-D59F2C77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IS-400 Applied Techn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esting/Gr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s Quiz (100p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Exam: Integrated project (400p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tudents: credit/no credi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S majors required to pass with 75%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s posted Ja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638-2B6D-4E07-B639-5FF93F0D4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21:13:56Z</dcterms:created>
  <dc:creator>Phil</dc:creator>
  <dc:description/>
  <dc:language>en-US</dc:language>
  <cp:lastModifiedBy>Phil Schneider</cp:lastModifiedBy>
  <dcterms:modified xsi:type="dcterms:W3CDTF">2012-05-09T09:46:14Z</dcterms:modified>
  <cp:revision>86</cp:revision>
  <dc:subject/>
  <dc:title>Personal Computing for the Slightly Anxious Beginner</dc:title>
</cp:coreProperties>
</file>